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E4BB-60F4-4FFB-A99F-1594DB715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5683-5DF7-4401-8DAE-7E995D282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E3E6-B885-409A-A92C-B1F5C0C5F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4B0D-CF04-4FF7-A36C-2B8E093B0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BC09-6254-4441-8B1E-DC07D588E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4E62-271D-4FBA-A25C-308389EE8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C172-B77D-404F-8A9A-1BCA30993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70CC-A332-46AA-954D-513CB50A5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7EB2-8D41-4941-B16D-7B19BD6B1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21A1-9FA7-4521-A288-3A9A9E3C6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474F-F706-4292-9866-E5B5EDDDC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6CBA-FF98-48BA-9D8D-603E7312B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BBBD-BE09-4D1C-B431-96A6C197D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C454-FDAB-449F-B5DC-733C42A3B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7138-CF2A-4F3B-AE5B-19E3555F2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CDF7-ECDF-44AE-8285-24DBF92B0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6CDB-8DA7-4CD7-9A7C-0B8AE3034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95E6-C72F-4824-864E-2A7653255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E809-051E-4615-B82F-4078752A3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51BE-1E49-4C34-9E12-F6260A04F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61EE-F68D-43CC-998C-27260EB5B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275B-F07F-40B8-A038-84E47A3EB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B817-93F1-4598-8EA0-4AC898313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C32D-DA78-4F65-8020-2A8112842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7571-25C6-4414-9993-66264FB65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BE69-FE2E-41F9-8F20-3945400CB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1B1B-9063-4F3F-80A4-EACC54A1F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F608-BF38-49AE-9B6B-2636A74A2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2155-C0BE-4FB7-A945-7CF28A785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7C21-3700-42A5-B57B-DB5EFE63E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0182-E786-4C78-8D59-F1F6AFAD3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8990-7B03-485F-84C4-34ABF2B0B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F021-263F-456B-9095-BBDC651D5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C61D-DA48-4BC7-A9B9-FF261EAD5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A764-F3FD-4A68-9EE4-E8270A284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02E6-349B-4BB3-B039-3BC70D117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14A3-700D-40FB-B34A-929706927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CFBC-AF44-4DF7-9CED-F5B51F461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5F0C-F804-4799-A969-FE0CBBDFF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26AB-77D4-4C5E-8D3B-B4AD082D1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F892-12C4-424A-B538-061AEC2E7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F3D4-B56B-426B-872B-CE6F741C7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9E4F-6E6D-477B-9FFA-9B59FA9CE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22D1-7C06-4415-8D53-2CF66B415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6E6C-3839-44A8-8E01-E24CCA720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DA21-5A33-4068-B91F-7F565C84A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DD04-B3AC-46AF-9B97-4F2BD4DCC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FAED-67E7-45AE-BFDE-B5681DFB7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E3EF-1B42-457B-9716-F907ABC98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A318-05BE-46BE-93A3-5A055163B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8225-2C3B-411F-8E85-FA582BAA3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B47E-CE1E-4DF4-B9CE-093B7514D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5A8A-7C23-48BD-94A1-7E9671644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1768-6167-49E0-8E9D-8D054C7FB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CE64-B935-4D31-9476-E84B2132D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C3CE-1F6F-49CB-AD7F-C50ADE641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485C-6213-49CB-950E-99D832DFB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04E2-0377-4074-8160-DA4C3DE56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E3E7-04C2-4620-890A-A1ED0489B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AC8C-DEF4-4D3A-9FDF-7A17ED3C6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85D3-8D5C-4D01-B83E-0C2F1BA2A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B1FC-4791-4E03-9ED5-A48921D2B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A04F-D8EA-4788-9B7C-28071AD8D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A67D-F312-4119-8175-3C16677AB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2806-0E6D-4CE4-9174-47D5B0A4E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985C-CE55-4A87-9F41-4BBBAEDED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AA7A-98D0-49E8-8B3F-DB6EC0239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FA10-7FA5-42E1-A846-3534D5B24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490B-9748-437D-B195-117B41BCA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290A-94C4-4DEC-BF51-0D34CDA49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1719-EFB2-4321-BAF7-27F5EE29A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EE8D-15E2-45F8-8E12-FA82FBB9B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FF59-696F-4872-96B1-F6DC8A762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CC5A-93B3-47B5-8EFE-B6455DE0C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6ECE-BB8B-4605-BB36-E52C31391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A187-C427-4742-A309-8051A9C80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67C3-03A6-454C-B75D-42ED7629B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D2EA-7264-47B0-8115-D93D4F921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722D-DA1E-40A6-9896-728DB1734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9DE9-45AE-4D45-9460-3DFDA8445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5A33-1EDC-437E-9925-2504BC2A4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2200-62AF-4CA0-9612-9082DC557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E969-9CE0-4985-B6D2-322AB48C2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6B7D-2603-4939-B6CF-089779693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529E-C953-4DB8-B09C-2DC66D4F8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B32F-0F91-48B7-BA66-B7D9A4880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4888-11A9-45BC-B2D6-6156F8BFD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EC01-098A-4ABB-AE1A-7743E5367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28CE-6549-4C4C-857A-3C88D152C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06AD-3CCF-40B8-A456-C42E031C6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89C6-CB54-4943-BC1C-715C5DBD1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5F35-C9B8-4813-B61A-C03610303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6C97-2D35-4519-8504-7A153DB2A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A2CF-FB94-4B4E-A198-11F6470C2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B074-FCF5-4F7E-AEF8-C8F391584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D18E-685F-45F1-A8FA-E99BBAB76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5C95-F9E6-4230-A354-5EC7C523D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0896-9FB8-449D-99BD-548B26694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D9CB-BC01-4295-91E1-8C2ABB457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5F23-111F-41D9-B80A-DF3C4D050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CF7A-F8B0-44B4-822C-B0922D7FC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2413-1604-4714-8132-2B234E496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9266-A62F-4F78-846F-25D0CD3B6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BF22-527E-499F-B520-6F2D15B66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13B7-31BB-4544-80D0-4BC233FE9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2F3A-6F24-4848-B034-9A2383991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C719-A4D5-4334-A08E-D7BDF39C6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E1E7-38B2-4020-BE05-60D835038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744D-B2AF-4D31-831A-EFFE4E65F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0CD5-6259-4B17-A6EF-7D3C08FDE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070A-D9DC-4785-948C-314D425E3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2184-A1B0-4C25-934E-F2B8AB44F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DCD-3303-4F4A-9999-BCFBE650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515F-6569-405B-88A5-5C8DB755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6AE-1B2C-4824-AFF8-ABFCCB9F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3465-2B5A-4C97-92FD-B1333A6D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191-C440-4DA4-9189-CB083891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AFEE-F099-4C27-A33E-38E50193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A2A6-0BA6-4F7C-A359-8BAF13BA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7B3-623B-4850-82A6-35218855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85E-88B3-4AFE-B6F9-36FBAAE2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175-C1C4-4AFA-968A-097A3EC0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3B1-554F-47FE-97AD-083CDD2D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A60-AB92-427E-B2BB-699FC625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88AC-2C3D-4ADF-8483-803376E20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larendon Cd (W1)"/>
              </a:rPr>
              <a:t>Physical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x-linked Characteristic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ts from recessive ge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are carried on the sex chromos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Bulimia nervosa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s an eating disorder in which one goes on an eating binge and then vomits or uses laxatives as a way of purging the bod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icture 9"/>
          <p:cNvPicPr/>
          <p:nvPr/>
        </p:nvPicPr>
        <p:blipFill>
          <a:blip r:embed="rId1"/>
          <a:stretch/>
        </p:blipFill>
        <p:spPr>
          <a:xfrm>
            <a:off x="1362240" y="2362320"/>
            <a:ext cx="6419520" cy="2133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t is commonly believe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t drug problem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mong young peopl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re at an epidemic level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the United State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icture 10"/>
          <p:cNvPicPr/>
          <p:nvPr/>
        </p:nvPicPr>
        <p:blipFill>
          <a:blip r:embed="rId1"/>
          <a:stretch/>
        </p:blipFill>
        <p:spPr>
          <a:xfrm>
            <a:off x="1949400" y="2114640"/>
            <a:ext cx="52452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Picture 12"/>
          <p:cNvPicPr/>
          <p:nvPr/>
        </p:nvPicPr>
        <p:blipFill>
          <a:blip r:embed="rId1"/>
          <a:stretch/>
        </p:blipFill>
        <p:spPr>
          <a:xfrm>
            <a:off x="1755720" y="2128680"/>
            <a:ext cx="563076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590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s a consequenc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popular cultur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 society’s relaxed attitudes about sexuality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ny researchers believ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t young peopl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re dealing with sexual issue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at a younger age than ever befor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mpared with adults, adolescents are at a higher risk for acquiring sexually transmitted diseases (STDs), including HIV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roblem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t has receive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most attentio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adolescent pregnanc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Picture 1"/>
          <p:cNvPicPr/>
          <p:nvPr/>
        </p:nvPicPr>
        <p:blipFill>
          <a:blip r:embed="rId1"/>
          <a:stretch/>
        </p:blipFill>
        <p:spPr>
          <a:xfrm>
            <a:off x="1523880" y="1676520"/>
            <a:ext cx="60436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Picture 13"/>
          <p:cNvPicPr/>
          <p:nvPr/>
        </p:nvPicPr>
        <p:blipFill>
          <a:blip r:embed="rId1"/>
          <a:stretch/>
        </p:blipFill>
        <p:spPr>
          <a:xfrm>
            <a:off x="1760400" y="1814400"/>
            <a:ext cx="562140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Monozygotic twin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come from the same fertilized egg and contain the same genetic instruction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Picture 14"/>
          <p:cNvPicPr/>
          <p:nvPr/>
        </p:nvPicPr>
        <p:blipFill>
          <a:blip r:embed="rId1"/>
          <a:stretch/>
        </p:blipFill>
        <p:spPr>
          <a:xfrm>
            <a:off x="1335240" y="1231920"/>
            <a:ext cx="6473520" cy="4392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chools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ke other ecological contexts, support healthy developmen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children and adolescent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 prevent risky behavior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Dizygotic twin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develop from two different egg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own Syndrom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n extra twenty-first chromosome or          a piece of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sorder occurs 1 out of 1,000 live bir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ce has been linked to the age of the 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dren have a very characteristic appea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icture 1"/>
          <p:cNvPicPr/>
          <p:nvPr/>
        </p:nvPicPr>
        <p:blipFill>
          <a:blip r:embed="rId1"/>
          <a:stretch/>
        </p:blipFill>
        <p:spPr>
          <a:xfrm>
            <a:off x="1828800" y="1219320"/>
            <a:ext cx="5522760" cy="4456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Picture 3"/>
          <p:cNvPicPr/>
          <p:nvPr/>
        </p:nvPicPr>
        <p:blipFill>
          <a:blip r:embed="rId1"/>
          <a:stretch/>
        </p:blipFill>
        <p:spPr>
          <a:xfrm>
            <a:off x="2133720" y="2133720"/>
            <a:ext cx="5200560" cy="1904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ragile-X Syndrom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the leading causes of mental retardation and developmental dis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used by a single 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common in males than fe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etected through genetic scre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DNA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enotyp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s a person inheri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both parents for any particular tra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henotyp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ual expression of inherited tra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Picture 1"/>
          <p:cNvPicPr/>
          <p:nvPr/>
        </p:nvPicPr>
        <p:blipFill>
          <a:blip r:embed="rId1"/>
          <a:stretch/>
        </p:blipFill>
        <p:spPr>
          <a:xfrm>
            <a:off x="2276640" y="1890720"/>
            <a:ext cx="4590720" cy="3075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prenatal development period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the tim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rom conception to birth.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Picture 1"/>
          <p:cNvPicPr/>
          <p:nvPr/>
        </p:nvPicPr>
        <p:blipFill>
          <a:blip r:embed="rId1"/>
          <a:stretch/>
        </p:blipFill>
        <p:spPr>
          <a:xfrm>
            <a:off x="2438280" y="2057400"/>
            <a:ext cx="48229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average period of human gestation is 38 week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enatal Development is divided into three major stages: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048120" y="33523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inal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ryonic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al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ages of Prenatal Developmen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80" name="Picture 4" descr="Picture 1"/>
          <p:cNvPicPr/>
          <p:nvPr/>
        </p:nvPicPr>
        <p:blipFill>
          <a:blip r:embed="rId1"/>
          <a:stretch/>
        </p:blipFill>
        <p:spPr>
          <a:xfrm>
            <a:off x="1219320" y="1676520"/>
            <a:ext cx="6904080" cy="4456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ratoge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3276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environmental substance or disease that causes abnormal development of the fet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Picture 2"/>
          <p:cNvPicPr/>
          <p:nvPr/>
        </p:nvPicPr>
        <p:blipFill>
          <a:blip r:embed="rId1"/>
          <a:stretch/>
        </p:blipFill>
        <p:spPr>
          <a:xfrm>
            <a:off x="2666880" y="1143000"/>
            <a:ext cx="4008600" cy="4815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Picture 1"/>
          <p:cNvPicPr/>
          <p:nvPr/>
        </p:nvPicPr>
        <p:blipFill>
          <a:blip r:embed="rId1"/>
          <a:stretch/>
        </p:blipFill>
        <p:spPr>
          <a:xfrm>
            <a:off x="2092320" y="2160720"/>
            <a:ext cx="495792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Picture 1"/>
          <p:cNvPicPr/>
          <p:nvPr/>
        </p:nvPicPr>
        <p:blipFill>
          <a:blip r:embed="rId1"/>
          <a:stretch/>
        </p:blipFill>
        <p:spPr>
          <a:xfrm>
            <a:off x="1600200" y="2286000"/>
            <a:ext cx="608796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most commo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 direct caus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low birth weigh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poor nutriti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human brain is the largest among land mammals relative to body siz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human zygote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s the cell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at is formed by the unio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the sperm and ovum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human brain is not fully mature until early adulthoo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Central Nervous Syste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4792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s of the brain, spinal cord, and nerve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s almost every aspect of human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ft Side of the Brain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2.6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92" name="Picture 4" descr="mee32357_0207"/>
          <p:cNvPicPr/>
          <p:nvPr/>
        </p:nvPicPr>
        <p:blipFill>
          <a:blip r:embed="rId1"/>
          <a:stretch/>
        </p:blipFill>
        <p:spPr>
          <a:xfrm>
            <a:off x="2392200" y="1471680"/>
            <a:ext cx="515160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Picture 2"/>
          <p:cNvPicPr/>
          <p:nvPr/>
        </p:nvPicPr>
        <p:blipFill>
          <a:blip r:embed="rId1"/>
          <a:stretch/>
        </p:blipFill>
        <p:spPr>
          <a:xfrm>
            <a:off x="4513320" y="3330720"/>
            <a:ext cx="115920" cy="196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Picture 2"/>
          <p:cNvPicPr/>
          <p:nvPr/>
        </p:nvPicPr>
        <p:blipFill>
          <a:blip r:embed="rId2"/>
          <a:stretch/>
        </p:blipFill>
        <p:spPr>
          <a:xfrm>
            <a:off x="4513320" y="3330720"/>
            <a:ext cx="115920" cy="196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Picture 2"/>
          <p:cNvPicPr/>
          <p:nvPr/>
        </p:nvPicPr>
        <p:blipFill>
          <a:blip r:embed="rId3"/>
          <a:stretch/>
        </p:blipFill>
        <p:spPr>
          <a:xfrm>
            <a:off x="4513320" y="3330720"/>
            <a:ext cx="115920" cy="196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Picture 3"/>
          <p:cNvPicPr/>
          <p:nvPr/>
        </p:nvPicPr>
        <p:blipFill>
          <a:blip r:embed="rId4"/>
          <a:stretch/>
        </p:blipFill>
        <p:spPr>
          <a:xfrm>
            <a:off x="1600200" y="1905120"/>
            <a:ext cx="632448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Picture 1"/>
          <p:cNvPicPr/>
          <p:nvPr/>
        </p:nvPicPr>
        <p:blipFill>
          <a:blip r:embed="rId1"/>
          <a:stretch/>
        </p:blipFill>
        <p:spPr>
          <a:xfrm>
            <a:off x="2895480" y="2133720"/>
            <a:ext cx="46260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alf of the neurons produced during prenatal development die.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yelinat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whereby the neurons and dendrites become coated with a fatty substance called mye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es neural impulses to travel f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idea tha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re is a “critical period”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brain developmen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an issue of debat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Picture 2"/>
          <p:cNvPicPr/>
          <p:nvPr/>
        </p:nvPicPr>
        <p:blipFill>
          <a:blip r:embed="rId1"/>
          <a:stretch/>
        </p:blipFill>
        <p:spPr>
          <a:xfrm>
            <a:off x="2406600" y="1168560"/>
            <a:ext cx="4356000" cy="4546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3123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ough often thought true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re is no strong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cientific evidenc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 categorize individual differences in learning styles according to left- and right-brain hemispheric specialization.</a:t>
            </a:r>
            <a:br>
              <a:rPr sz="4400"/>
            </a:br>
            <a:br>
              <a:rPr sz="4400"/>
            </a:b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(Hiscock &amp; Kinbourne, 1987)</a:t>
            </a:r>
            <a:endParaRPr b="0" lang="en-US" sz="1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human zygote contains one set of 23 chromosomes from the mother and another set of 23 chromosomes from the father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oth cerebral hemispheres influence more aspects of cognitive functioning than was previously though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Perceptual development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volves the processing of sensory informatio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y the brai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Habituatio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s the decrease in an infant’s response to a stimulus after repeated exposure to it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etuses can react to soun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abies prefer sweet fluids to other tastes, and they dislike sour and bitter tast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sense of smell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present at birth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ewborn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re responsive to touch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ttachment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s the process by which infants form strong, affectional ties with their caregiver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Intermodal perceptio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eans that events or object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an be simultaneously perceived by multiple sens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y doe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knowledge of children’s perceptual developmen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ave important implication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educators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olygenetic Trai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characteristics that result from the interplay of multiple ge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n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arning Disabilit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67652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not due to a lack of motivation or effort on the child’s 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due to poor te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due to a lack of intelli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 due to any temporary 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ossible Causes for Learning Disabilitie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uring pregnancy and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idents after bir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 with specific learning disabilities exhibit a wide range of academic learning problem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Picture 1"/>
          <p:cNvPicPr/>
          <p:nvPr/>
        </p:nvPicPr>
        <p:blipFill>
          <a:blip r:embed="rId1"/>
          <a:stretch/>
        </p:blipFill>
        <p:spPr>
          <a:xfrm>
            <a:off x="1908000" y="939960"/>
            <a:ext cx="5326200" cy="49766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icture 1"/>
          <p:cNvPicPr/>
          <p:nvPr/>
        </p:nvPicPr>
        <p:blipFill>
          <a:blip r:embed="rId1"/>
          <a:stretch/>
        </p:blipFill>
        <p:spPr>
          <a:xfrm>
            <a:off x="1967040" y="1150920"/>
            <a:ext cx="5208480" cy="4554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 Signs of Learning Disabilities, continued.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ttention Deficit Hyperactivity Disorder 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ADHD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90360" y="2743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only diagnosed behavior disor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acterized by developmentally inappropriate levels of activity, concentration, distractibility and impulsi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requent in boys than in gi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Picture 1"/>
          <p:cNvPicPr/>
          <p:nvPr/>
        </p:nvPicPr>
        <p:blipFill>
          <a:blip r:embed="rId1"/>
          <a:stretch/>
        </p:blipFill>
        <p:spPr>
          <a:xfrm>
            <a:off x="2581200" y="1563840"/>
            <a:ext cx="3981600" cy="37288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Picture 1"/>
          <p:cNvPicPr/>
          <p:nvPr/>
        </p:nvPicPr>
        <p:blipFill>
          <a:blip r:embed="rId1"/>
          <a:stretch/>
        </p:blipFill>
        <p:spPr>
          <a:xfrm>
            <a:off x="2774880" y="1219320"/>
            <a:ext cx="2833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icture 2"/>
          <p:cNvPicPr/>
          <p:nvPr/>
        </p:nvPicPr>
        <p:blipFill>
          <a:blip r:embed="rId1"/>
          <a:stretch/>
        </p:blipFill>
        <p:spPr>
          <a:xfrm>
            <a:off x="770040" y="1932120"/>
            <a:ext cx="7603920" cy="2993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Picture 3"/>
          <p:cNvPicPr/>
          <p:nvPr/>
        </p:nvPicPr>
        <p:blipFill>
          <a:blip r:embed="rId1"/>
          <a:stretch/>
        </p:blipFill>
        <p:spPr>
          <a:xfrm>
            <a:off x="1935000" y="1595520"/>
            <a:ext cx="5272200" cy="36669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trait not expresse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reflect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recessive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gen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ny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physical disabiliti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result from damage to the central nervous system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 with low vision cannot read newsprint-size letters, even with corrective lens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 who are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blind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ave either 20/200 visio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r a limited field of visi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raumatic Brain Injury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5248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cquired injury to the b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 open or closed head inj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significant impact on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 with deaf-blindness have dual sensory impairment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degree of integratio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to the general classroom depends on a child’s level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cognitive developmen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d communication abilit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utis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10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urological dis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ects the functioning of the b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ommon in boys than gi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Picture 1"/>
          <p:cNvPicPr/>
          <p:nvPr/>
        </p:nvPicPr>
        <p:blipFill>
          <a:blip r:embed="rId1"/>
          <a:stretch/>
        </p:blipFill>
        <p:spPr>
          <a:xfrm>
            <a:off x="2133720" y="1676520"/>
            <a:ext cx="5208480" cy="45543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38" name="Picture 7" descr="Picture 1"/>
          <p:cNvPicPr/>
          <p:nvPr/>
        </p:nvPicPr>
        <p:blipFill>
          <a:blip r:embed="rId2"/>
          <a:stretch/>
        </p:blipFill>
        <p:spPr>
          <a:xfrm>
            <a:off x="2133720" y="685800"/>
            <a:ext cx="5105160" cy="762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icture 4"/>
          <p:cNvPicPr/>
          <p:nvPr/>
        </p:nvPicPr>
        <p:blipFill>
          <a:blip r:embed="rId1"/>
          <a:stretch/>
        </p:blipFill>
        <p:spPr>
          <a:xfrm>
            <a:off x="1981080" y="2209680"/>
            <a:ext cx="5164200" cy="3630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40" name="Picture 5" descr="Picture 1"/>
          <p:cNvPicPr/>
          <p:nvPr/>
        </p:nvPicPr>
        <p:blipFill>
          <a:blip r:embed="rId2"/>
          <a:stretch/>
        </p:blipFill>
        <p:spPr>
          <a:xfrm>
            <a:off x="1981080" y="990720"/>
            <a:ext cx="5105520" cy="1047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y age 5 or 6, most children: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29528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opy simple geometric sh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manipulate buttons and zip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able to tie their own sh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print the alphabet, letters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ir name, and numbers 1 -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write large and not well organized on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DNA Molecule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2.2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7" name="Picture 6" descr="mee32357_0202"/>
          <p:cNvPicPr/>
          <p:nvPr/>
        </p:nvPicPr>
        <p:blipFill>
          <a:blip r:embed="rId1"/>
          <a:stretch/>
        </p:blipFill>
        <p:spPr>
          <a:xfrm>
            <a:off x="3630600" y="1447920"/>
            <a:ext cx="18813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irl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nd to walk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arlier than boy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y the early childhood years, boys outperform girls on most gross motor task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 or adolescents with poor motor skills may avoid physical activities and become sedentar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hood obesit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as been on the ris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s motor skills develop and children begin to spend more time away from the careful supervision of parents, the incidence of accidental injuries ris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oo may children are pushed into competitive sports before their motor skills have significantly mature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average infan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ighs approximatel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7.5 pounds at birth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ing the first year, an infant’s weight will tripl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ephalocaudal Developmen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th starts at the head and proceeds down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fant’s brain, neck, and trunk develop before the le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ximal-distal Developmen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begins in the center and proceeds outw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s develop before the arms or h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les have an X and a Y chromosome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emales have two X chromosom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hysical growth slows down during the preschool and elementary year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average American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growing taller toda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eredity plays an important role in determining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child’s shape and siz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utrition is a core element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well-being throughout lif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leep is a vital component of health and well-being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uberty refers to the period in which a young person becomes capable of sexual reproducti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Picture 5"/>
          <p:cNvPicPr/>
          <p:nvPr/>
        </p:nvPicPr>
        <p:blipFill>
          <a:blip r:embed="rId1"/>
          <a:stretch/>
        </p:blipFill>
        <p:spPr>
          <a:xfrm>
            <a:off x="2949480" y="1160640"/>
            <a:ext cx="3245040" cy="4536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Picture 6"/>
          <p:cNvPicPr/>
          <p:nvPr/>
        </p:nvPicPr>
        <p:blipFill>
          <a:blip r:embed="rId1"/>
          <a:stretch/>
        </p:blipFill>
        <p:spPr>
          <a:xfrm>
            <a:off x="1347840" y="1994040"/>
            <a:ext cx="644688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thnic differences in the onset of puberty are not well understoo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Picture 7"/>
          <p:cNvPicPr/>
          <p:nvPr/>
        </p:nvPicPr>
        <p:blipFill>
          <a:blip r:embed="rId1"/>
          <a:stretch/>
        </p:blipFill>
        <p:spPr>
          <a:xfrm>
            <a:off x="1312920" y="2249640"/>
            <a:ext cx="6518160" cy="2357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pproximately 160 males are conceived for every 100 femal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ubert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a dramatic period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physical development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cond only to infanc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ubert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ten leads to change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adolescents’ self-image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lf-confidence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amily relations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ods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lations with the opposite sex, and many other behavior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re is considerabl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dividual variability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the onset of pubert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arly physical maturity in girl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an have som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ositive consequences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ut it also poses some risk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Young people today face a number of risks and challenges, including drug use, early sexual experimentation, and AID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876312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8b4"/>
                </a:solidFill>
                <a:latin typeface="Arial"/>
              </a:rPr>
              <a:t>FIGURE 2.13 </a:t>
            </a:r>
            <a:r>
              <a:rPr b="0" i="1" lang="en-US" sz="2400" spc="-1" strike="noStrike">
                <a:solidFill>
                  <a:srgbClr val="231f20"/>
                </a:solidFill>
                <a:latin typeface="Arial"/>
              </a:rPr>
              <a:t>Concerns of Children and Adolescents Today     Source: </a:t>
            </a:r>
            <a:r>
              <a:rPr b="0" lang="en-US" sz="2400" spc="-1" strike="noStrike">
                <a:solidFill>
                  <a:srgbClr val="231f20"/>
                </a:solidFill>
                <a:latin typeface="Arial"/>
              </a:rPr>
              <a:t>Child Welfare League of America, 2005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9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000" spc="-1" strike="noStrike">
                <a:solidFill>
                  <a:srgbClr val="231f20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In 2001, almost half of the total number of enrollees in Medicaid were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children under age 19.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• In 2002, 425,493 babies were born to girls ages 15 to19, a birthrate of 43 per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1,000 girls.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• In 2002, an estimated 2,209,000 children ages 12–17 were dependent on or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abusing illicit drugs or alcohol.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• Co-occurring mental health and substance abuse disorders are increasingly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prevalent in youth; of youth treated for substance abuse disorders, 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80–85% also have a mental health disorder.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• In 2003, 1,687,814 children under age 18 were arrested; of these arrests,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25,531 were for violent crimes and 11,501 were for possession of a 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weapon.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• A 2001 census showed that 104,413 children are housed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juvenile correction facilities in the United States.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• In 2001, 1,890 children under age 20 committed suicide in the United States,</a:t>
            </a:r>
            <a:br>
              <a:rPr sz="1800"/>
            </a:b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31f20"/>
                </a:solidFill>
                <a:latin typeface="Arial"/>
              </a:rPr>
              <a:t>a rate of 2.6 per 100,000 child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ercentage of young people who are overweight has more than doubled in the last 30 year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Picture 8"/>
          <p:cNvPicPr/>
          <p:nvPr/>
        </p:nvPicPr>
        <p:blipFill>
          <a:blip r:embed="rId1"/>
          <a:stretch/>
        </p:blipFill>
        <p:spPr>
          <a:xfrm>
            <a:off x="1630440" y="2232000"/>
            <a:ext cx="58816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hood obesity has increased rapidly in the last 30 year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eating disorder </a:t>
            </a:r>
            <a:br>
              <a:rPr sz="4400"/>
            </a:b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norexia nervosa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ainly affect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olescent girl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etween the ages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f 14 and 18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4:07:13Z</dcterms:created>
  <dc:creator>McGraw-Hill Higher Education</dc:creator>
  <dc:description/>
  <dc:language>en-US</dc:language>
  <cp:lastModifiedBy>laurie.donovan</cp:lastModifiedBy>
  <dcterms:modified xsi:type="dcterms:W3CDTF">2010-10-08T03:11:49Z</dcterms:modified>
  <cp:revision>123</cp:revision>
  <dc:subject/>
  <dc:title>Chapter 2</dc:title>
</cp:coreProperties>
</file>